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636-B901-4769-9931-9DF0B9ED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F74-4EEB-44FB-81CF-BF93BF20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8266-2F05-4B91-A93D-901491BB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EADB-A0A8-4949-938F-3C4C2F30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198-DD42-403B-82CF-3CEAAA3B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542D-EC31-4A90-9701-782E3CAF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59F-4B4C-4DD8-BB04-7B1AF5EF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C13-C5C3-404C-8ADD-38420CA2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B06F-E340-4D4A-8933-13BCE9F5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ED1-471E-45A0-89BA-B8851196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35F-4ABB-43C0-8758-E39C866F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D4EA-D3CD-4E54-98FB-635C2976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7941-9045-4FB1-9FB4-2B4E3FD81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19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rmany’s fight for pow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y was a new nation created by the effect of the Prussian defeat of France. (187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is period Germany believed it deserved its glory , its “time in the sun”, as an imperial military power possessing colonies around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rmanys contributions to world war 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g attempt to re-make the map of Europe and encouragement of the Austro-Hungarian Empire to deny Russia ultimatum actually set the war in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also contribu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to use major railroads as a principal strategic factor allowing rapid movement of masses of troops to battle fi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velopment of advanced aircra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of the first modern machine g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of the soviet unio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world war 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y were forced to pay for a large  deal of war reparations, which ultimately led to the start of world war tw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20:52:12Z</dcterms:created>
  <dc:creator>Miki</dc:creator>
  <dc:description/>
  <dc:language>en-US</dc:language>
  <cp:lastModifiedBy>Miki</cp:lastModifiedBy>
  <dcterms:modified xsi:type="dcterms:W3CDTF">2009-02-18T20:55:13Z</dcterms:modified>
  <cp:revision>2</cp:revision>
  <dc:subject/>
  <dc:title>Germany</dc:title>
</cp:coreProperties>
</file>